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23.png" ContentType="image/png"/>
  <Override PartName="/ppt/media/image13.jpeg" ContentType="image/jpeg"/>
  <Override PartName="/ppt/media/image9.gif" ContentType="image/gif"/>
  <Override PartName="/ppt/media/image37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3.png" ContentType="image/png"/>
  <Override PartName="/ppt/media/image39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7F5-B48D-4DD4-A4A0-04AFF071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1E7-592A-40BE-A1ED-B0A9F9C8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97C-8BE7-46A1-AB14-F1B30DBC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C9C-C220-4C02-8B2C-3D04AE91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B16E-52C3-48A4-9916-C52E14DF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79F-A565-4A10-B007-B99F0185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2EB4-9D99-4315-8DEE-7F767A5B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5CE-3F6C-4750-9731-35D5F27D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3982-9E32-4BC0-8EFA-DCC9D6BE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B129-487F-4C76-9999-D6494516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F58-2474-4DD2-9D82-DD9DC02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CAF-F8D7-4B80-B7C0-02B646C5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AF1F-84FD-48A2-BDA6-830F653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B1E-667F-4734-BE6D-3846096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366-861A-4A54-B62F-80EB949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6CA-8FF0-4117-AB06-D27C710E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2836-E0F6-4A78-BB55-6EF975AB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29A-3493-4928-8C73-D115038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EF6-B179-4610-A1C2-47A4691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D05-AD88-461E-9106-88490EE3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505-63F1-4650-AB9F-2DD68DB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720-D491-46ED-BE92-F1CC0D9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CEB-9400-45C9-BB48-DB7FC40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921-BDCB-4BD2-ACC1-4988001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5AF0-E6AD-40F0-BC4A-25985A4E0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4028-84D4-451E-9666-0736BC09D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Action Button: Forward or Next 5">
            <a:hlinkClick r:id="rId1" action="ppaction://hlinksldjump"/>
          </p:cNvPr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alent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ing electrons to form a b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occurs between nonmetals or metallo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also occur between two atoms of the same 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cov bond 1"/>
          <p:cNvPicPr/>
          <p:nvPr/>
        </p:nvPicPr>
        <p:blipFill>
          <a:blip r:embed="rId1"/>
          <a:stretch/>
        </p:blipFill>
        <p:spPr>
          <a:xfrm>
            <a:off x="0" y="5334120"/>
            <a:ext cx="4495680" cy="109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ov bond 2"/>
          <p:cNvPicPr/>
          <p:nvPr/>
        </p:nvPicPr>
        <p:blipFill>
          <a:blip r:embed="rId2"/>
          <a:stretch/>
        </p:blipFill>
        <p:spPr>
          <a:xfrm>
            <a:off x="4648320" y="5334120"/>
            <a:ext cx="4495680" cy="106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covalent"/>
          <p:cNvPicPr/>
          <p:nvPr/>
        </p:nvPicPr>
        <p:blipFill>
          <a:blip r:embed="rId3"/>
          <a:stretch/>
        </p:blipFill>
        <p:spPr>
          <a:xfrm>
            <a:off x="5181480" y="3429000"/>
            <a:ext cx="2819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a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electrons are shared in a chemical b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alent bonds can be separated by polarity int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bonds- unequal sharing of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polar bonds- equal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polar bonds share the electrons equal amounts of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olar bonds, one element is stronger than the other and controls the electrons for more of the time.  This cre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ipo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dipole"/>
          <p:cNvPicPr/>
          <p:nvPr/>
        </p:nvPicPr>
        <p:blipFill>
          <a:blip r:embed="rId1"/>
          <a:stretch/>
        </p:blipFill>
        <p:spPr>
          <a:xfrm>
            <a:off x="4114800" y="4419720"/>
            <a:ext cx="5029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arity of a bond can be represented in three way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bbl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al charge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ity arrow met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row always faces element with larger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partial charge"/>
          <p:cNvPicPr/>
          <p:nvPr/>
        </p:nvPicPr>
        <p:blipFill>
          <a:blip r:embed="rId1"/>
          <a:stretch/>
        </p:blipFill>
        <p:spPr>
          <a:xfrm>
            <a:off x="4038480" y="5305320"/>
            <a:ext cx="5105520" cy="155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bubbles"/>
          <p:cNvPicPr/>
          <p:nvPr/>
        </p:nvPicPr>
        <p:blipFill>
          <a:blip r:embed="rId2"/>
          <a:stretch/>
        </p:blipFill>
        <p:spPr>
          <a:xfrm>
            <a:off x="380880" y="525780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09480" y="609480"/>
            <a:ext cx="7925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Bond length- distance betwee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 covalently bonded nucl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236232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ond angle- distance (in degrees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etween 2 outer atoms in a compou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93760" y="4038480"/>
            <a:ext cx="67564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 Types of Bond Mov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4648320"/>
            <a:ext cx="47116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Symmetrical stretching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9880" y="5334120"/>
            <a:ext cx="49658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. Asymmetrical stretching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791320"/>
            <a:ext cx="20066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3. Bending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77120" y="6172200"/>
            <a:ext cx="20318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4. Rotatio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76440" y="2362320"/>
            <a:ext cx="4191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tallic Bon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6280" y="457200"/>
            <a:ext cx="819144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lectrons pass freely from atom to atom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reating "sea of electrons," very loosely held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29200" y="3886200"/>
            <a:ext cx="3543480" cy="21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Responsible for: 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Malleability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. Ductility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3. Conductivity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447920" y="4952880"/>
            <a:ext cx="624816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ntermolecular Fo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6560" y="380880"/>
            <a:ext cx="7670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pole- a molecule wit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pposite charges at either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380880"/>
            <a:ext cx="35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Dipole-dipol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9880" y="1447920"/>
            <a:ext cx="5105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. Dipole- Induced dipole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236232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3. London dispersio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0" y="342900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4. Hydrogen bonding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 a compound without having to write th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the number of atoms in the comp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two typ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c- metals with non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alent- nonmetals with non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onic Formu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ing Ionic Comp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ame of the first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ame of the second element but add –ide to the end of the n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  Mg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sium sulf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n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inc chlor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onic Formu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group is assigned a charge number based on how many electrons are gained or lost by the elements in that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250" autoRev="1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joined together that act as one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es come in three siz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of two atoms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of 3-100,000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of over 100,000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led macromolec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large molecules cannot be seen with the naked ey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c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g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nsition elements have individual charge nu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Ionic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symbols for the elements in the comp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up the charges for each element and write them as superscripts behind the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ss the numbers in an “X” until they are behind the other el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fluor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 ox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valent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ing Covalent Compou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name of the first el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name of the second element but add –ide to the end of the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the prefix that matches the subscript in the formul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prefix in front of the element’s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= t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triox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sen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lf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= d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= 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rsenic trisulf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Covalent Formu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rite the symbols for the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number that matches the prefix in the n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umber as a subscript behind the appropriate el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sulf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itrogen pentachlor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 = 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ta =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yatomic 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s of elements that act as one element in a comp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yatomic ions are given special n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ing compounds with polyatomic 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name of the first el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polyatomic ion on your sheet.  Write its name as it appears on the 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dium phosph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assium permanga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 Formulas with Polyatomic 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symbols for the element and the polyatomic 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charge number for the element and the polyatomic ion.  Write them as superscrip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ss the charge numbers o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Molec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salt"/>
          <p:cNvPicPr/>
          <p:nvPr/>
        </p:nvPicPr>
        <p:blipFill>
          <a:blip r:embed="rId1"/>
          <a:stretch/>
        </p:blipFill>
        <p:spPr>
          <a:xfrm>
            <a:off x="5294160" y="1600200"/>
            <a:ext cx="274500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arbon3"/>
          <p:cNvPicPr/>
          <p:nvPr/>
        </p:nvPicPr>
        <p:blipFill>
          <a:blip r:embed="rId2"/>
          <a:srcRect l="14219" t="10417" r="14219" b="0"/>
          <a:stretch/>
        </p:blipFill>
        <p:spPr>
          <a:xfrm>
            <a:off x="4800600" y="4170240"/>
            <a:ext cx="26701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hydrox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on nit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6" name="Rectangle 4" descr=""/>
          <p:cNvPicPr/>
          <p:nvPr/>
        </p:nvPicPr>
        <p:blipFill>
          <a:blip r:embed="rId1"/>
          <a:stretch/>
        </p:blipFill>
        <p:spPr>
          <a:xfrm>
            <a:off x="-128520" y="1066680"/>
            <a:ext cx="7065720" cy="115884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5" descr=""/>
          <p:cNvPicPr/>
          <p:nvPr/>
        </p:nvPicPr>
        <p:blipFill>
          <a:blip r:embed="rId2"/>
          <a:stretch/>
        </p:blipFill>
        <p:spPr>
          <a:xfrm>
            <a:off x="901800" y="1981080"/>
            <a:ext cx="8364600" cy="92736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6" descr=""/>
          <p:cNvPicPr/>
          <p:nvPr/>
        </p:nvPicPr>
        <p:blipFill>
          <a:blip r:embed="rId3"/>
          <a:stretch/>
        </p:blipFill>
        <p:spPr>
          <a:xfrm>
            <a:off x="23760" y="2876400"/>
            <a:ext cx="3743280" cy="94644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7" descr=""/>
          <p:cNvPicPr/>
          <p:nvPr/>
        </p:nvPicPr>
        <p:blipFill>
          <a:blip r:embed="rId4"/>
          <a:stretch/>
        </p:blipFill>
        <p:spPr>
          <a:xfrm>
            <a:off x="4900680" y="2955960"/>
            <a:ext cx="3120840" cy="94608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8" descr=""/>
          <p:cNvPicPr/>
          <p:nvPr/>
        </p:nvPicPr>
        <p:blipFill>
          <a:blip r:embed="rId5"/>
          <a:stretch/>
        </p:blipFill>
        <p:spPr>
          <a:xfrm>
            <a:off x="347760" y="3608280"/>
            <a:ext cx="2736720" cy="112896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9" descr=""/>
          <p:cNvPicPr/>
          <p:nvPr/>
        </p:nvPicPr>
        <p:blipFill>
          <a:blip r:embed="rId6"/>
          <a:stretch/>
        </p:blipFill>
        <p:spPr>
          <a:xfrm>
            <a:off x="5450040" y="3687840"/>
            <a:ext cx="20602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" name="Picture 2" descr="linear.gif"/>
          <p:cNvPicPr/>
          <p:nvPr/>
        </p:nvPicPr>
        <p:blipFill>
          <a:blip r:embed="rId1"/>
          <a:srcRect l="0" t="0" r="0" b="36533"/>
          <a:stretch/>
        </p:blipFill>
        <p:spPr>
          <a:xfrm>
            <a:off x="4114800" y="1828800"/>
            <a:ext cx="2209680" cy="380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lanar bent.gif"/>
          <p:cNvPicPr/>
          <p:nvPr/>
        </p:nvPicPr>
        <p:blipFill>
          <a:blip r:embed="rId2"/>
          <a:srcRect l="51830" t="0" r="0" b="8742"/>
          <a:stretch/>
        </p:blipFill>
        <p:spPr>
          <a:xfrm rot="14398200">
            <a:off x="4116960" y="2891160"/>
            <a:ext cx="2014560" cy="1695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planar bent.gif"/>
          <p:cNvPicPr/>
          <p:nvPr/>
        </p:nvPicPr>
        <p:blipFill>
          <a:blip r:embed="rId3"/>
          <a:srcRect l="0" t="0" r="50805" b="9750"/>
          <a:stretch/>
        </p:blipFill>
        <p:spPr>
          <a:xfrm>
            <a:off x="4419720" y="45720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5" descr=""/>
          <p:cNvPicPr/>
          <p:nvPr/>
        </p:nvPicPr>
        <p:blipFill>
          <a:blip r:embed="rId4"/>
          <a:stretch/>
        </p:blipFill>
        <p:spPr>
          <a:xfrm>
            <a:off x="1212840" y="1463760"/>
            <a:ext cx="2146320" cy="85248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6" descr=""/>
          <p:cNvPicPr/>
          <p:nvPr/>
        </p:nvPicPr>
        <p:blipFill>
          <a:blip r:embed="rId5"/>
          <a:stretch/>
        </p:blipFill>
        <p:spPr>
          <a:xfrm>
            <a:off x="1365120" y="2987640"/>
            <a:ext cx="1702080" cy="85248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7" descr=""/>
          <p:cNvPicPr/>
          <p:nvPr/>
        </p:nvPicPr>
        <p:blipFill>
          <a:blip r:embed="rId6"/>
          <a:stretch/>
        </p:blipFill>
        <p:spPr>
          <a:xfrm>
            <a:off x="695160" y="4968720"/>
            <a:ext cx="4096080" cy="852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trig bipyr.gif"/>
          <p:cNvPicPr/>
          <p:nvPr/>
        </p:nvPicPr>
        <p:blipFill>
          <a:blip r:embed="rId7"/>
          <a:srcRect l="0" t="0" r="50686" b="57354"/>
          <a:stretch/>
        </p:blipFill>
        <p:spPr>
          <a:xfrm>
            <a:off x="838080" y="1523880"/>
            <a:ext cx="2057400" cy="221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tet pyram bent.gif"/>
          <p:cNvPicPr/>
          <p:nvPr/>
        </p:nvPicPr>
        <p:blipFill>
          <a:blip r:embed="rId8"/>
          <a:srcRect l="0" t="0" r="66513" b="7202"/>
          <a:stretch/>
        </p:blipFill>
        <p:spPr>
          <a:xfrm>
            <a:off x="5562720" y="1600200"/>
            <a:ext cx="2009520" cy="214776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10" descr=""/>
          <p:cNvPicPr/>
          <p:nvPr/>
        </p:nvPicPr>
        <p:blipFill>
          <a:blip r:embed="rId9"/>
          <a:stretch/>
        </p:blipFill>
        <p:spPr>
          <a:xfrm>
            <a:off x="2517840" y="2152800"/>
            <a:ext cx="3254400" cy="84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tet pyram bent.gif"/>
          <p:cNvPicPr/>
          <p:nvPr/>
        </p:nvPicPr>
        <p:blipFill>
          <a:blip r:embed="rId10"/>
          <a:srcRect l="34291" t="0" r="31430" b="11106"/>
          <a:stretch/>
        </p:blipFill>
        <p:spPr>
          <a:xfrm>
            <a:off x="5867280" y="4114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12" descr=""/>
          <p:cNvPicPr/>
          <p:nvPr/>
        </p:nvPicPr>
        <p:blipFill>
          <a:blip r:embed="rId11"/>
          <a:stretch/>
        </p:blipFill>
        <p:spPr>
          <a:xfrm>
            <a:off x="1390680" y="4664160"/>
            <a:ext cx="4900680" cy="8524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13" descr=""/>
          <p:cNvPicPr/>
          <p:nvPr/>
        </p:nvPicPr>
        <p:blipFill>
          <a:blip r:embed="rId12"/>
          <a:stretch/>
        </p:blipFill>
        <p:spPr>
          <a:xfrm>
            <a:off x="3224160" y="2225520"/>
            <a:ext cx="5322960" cy="852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oct.gif"/>
          <p:cNvPicPr/>
          <p:nvPr/>
        </p:nvPicPr>
        <p:blipFill>
          <a:blip r:embed="rId13"/>
          <a:stretch/>
        </p:blipFill>
        <p:spPr>
          <a:xfrm>
            <a:off x="1371600" y="4340160"/>
            <a:ext cx="1981080" cy="222264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16" descr=""/>
          <p:cNvPicPr/>
          <p:nvPr/>
        </p:nvPicPr>
        <p:blipFill>
          <a:blip r:embed="rId14"/>
          <a:stretch/>
        </p:blipFill>
        <p:spPr>
          <a:xfrm>
            <a:off x="3889440" y="4816440"/>
            <a:ext cx="313992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8" name="Rectangle 5" descr=""/>
          <p:cNvPicPr/>
          <p:nvPr/>
        </p:nvPicPr>
        <p:blipFill>
          <a:blip r:embed="rId1"/>
          <a:stretch/>
        </p:blipFill>
        <p:spPr>
          <a:xfrm>
            <a:off x="3902040" y="1755720"/>
            <a:ext cx="3632400" cy="115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mole.jpg"/>
          <p:cNvPicPr/>
          <p:nvPr/>
        </p:nvPicPr>
        <p:blipFill>
          <a:blip r:embed="rId2"/>
          <a:stretch/>
        </p:blipFill>
        <p:spPr>
          <a:xfrm>
            <a:off x="228600" y="1371600"/>
            <a:ext cx="3071880" cy="251604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8" descr=""/>
          <p:cNvPicPr/>
          <p:nvPr/>
        </p:nvPicPr>
        <p:blipFill>
          <a:blip r:embed="rId3"/>
          <a:stretch/>
        </p:blipFill>
        <p:spPr>
          <a:xfrm>
            <a:off x="378000" y="3121200"/>
            <a:ext cx="9083520" cy="1547640"/>
          </a:xfrm>
          <a:prstGeom prst="rect">
            <a:avLst/>
          </a:prstGeom>
          <a:ln w="0">
            <a:noFill/>
          </a:ln>
        </p:spPr>
      </p:pic>
      <p:pic>
        <p:nvPicPr>
          <p:cNvPr id="231" name="Rectangle 9" descr=""/>
          <p:cNvPicPr/>
          <p:nvPr/>
        </p:nvPicPr>
        <p:blipFill>
          <a:blip r:embed="rId4"/>
          <a:stretch/>
        </p:blipFill>
        <p:spPr>
          <a:xfrm>
            <a:off x="-23760" y="1268280"/>
            <a:ext cx="9313920" cy="110988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11" descr=""/>
          <p:cNvPicPr/>
          <p:nvPr/>
        </p:nvPicPr>
        <p:blipFill>
          <a:blip r:embed="rId5"/>
          <a:stretch/>
        </p:blipFill>
        <p:spPr>
          <a:xfrm>
            <a:off x="1865160" y="4164120"/>
            <a:ext cx="6424920" cy="110952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12" descr=""/>
          <p:cNvPicPr/>
          <p:nvPr/>
        </p:nvPicPr>
        <p:blipFill>
          <a:blip r:embed="rId6"/>
          <a:stretch/>
        </p:blipFill>
        <p:spPr>
          <a:xfrm>
            <a:off x="2475000" y="3249720"/>
            <a:ext cx="6699240" cy="1109520"/>
          </a:xfrm>
          <a:prstGeom prst="rect">
            <a:avLst/>
          </a:prstGeom>
          <a:ln w="0">
            <a:noFill/>
          </a:ln>
        </p:spPr>
      </p:pic>
      <p:sp>
        <p:nvSpPr>
          <p:cNvPr id="234" name="Up Arrow 13"/>
          <p:cNvSpPr/>
          <p:nvPr/>
        </p:nvSpPr>
        <p:spPr>
          <a:xfrm>
            <a:off x="5334120" y="2362320"/>
            <a:ext cx="914400" cy="99036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707e7"/>
                                      </p:to>
                                    </p:animClr>
                                    <p:animClr clrSpc="rgb">
                                      <p:cBhvr>
                                        <p:cTn id="8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707e7"/>
                                      </p:to>
                                    </p:animClr>
                                    <p:set>
                                      <p:cBhvr>
                                        <p:cTn id="8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38080" y="5715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: What do you get when you have a bunch of moles acting like idiots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 bunch of Moleas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7" name="Rectangle 5" descr=""/>
          <p:cNvPicPr/>
          <p:nvPr/>
        </p:nvPicPr>
        <p:blipFill>
          <a:blip r:embed="rId1"/>
          <a:stretch/>
        </p:blipFill>
        <p:spPr>
          <a:xfrm>
            <a:off x="1878120" y="2786040"/>
            <a:ext cx="61754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um molec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sucroseBSN75"/>
          <p:cNvPicPr/>
          <p:nvPr/>
        </p:nvPicPr>
        <p:blipFill>
          <a:blip r:embed="rId1"/>
          <a:stretch/>
        </p:blipFill>
        <p:spPr>
          <a:xfrm>
            <a:off x="5132520" y="1600200"/>
            <a:ext cx="306864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Viz2_s"/>
          <p:cNvPicPr/>
          <p:nvPr/>
        </p:nvPicPr>
        <p:blipFill>
          <a:blip r:embed="rId2"/>
          <a:stretch/>
        </p:blipFill>
        <p:spPr>
          <a:xfrm>
            <a:off x="5038560" y="3941640"/>
            <a:ext cx="325620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1426004_75"/>
          <p:cNvPicPr/>
          <p:nvPr/>
        </p:nvPicPr>
        <p:blipFill>
          <a:blip r:embed="rId3"/>
          <a:stretch/>
        </p:blipFill>
        <p:spPr>
          <a:xfrm>
            <a:off x="1447920" y="3962520"/>
            <a:ext cx="2438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molecules (macromolecu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adeno3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206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na25"/>
          <p:cNvPicPr/>
          <p:nvPr/>
        </p:nvPicPr>
        <p:blipFill>
          <a:blip r:embed="rId2"/>
          <a:stretch/>
        </p:blipFill>
        <p:spPr>
          <a:xfrm>
            <a:off x="7086600" y="2286000"/>
            <a:ext cx="1766880" cy="403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16sbccl"/>
          <p:cNvPicPr/>
          <p:nvPr/>
        </p:nvPicPr>
        <p:blipFill>
          <a:blip r:embed="rId3"/>
          <a:stretch/>
        </p:blipFill>
        <p:spPr>
          <a:xfrm>
            <a:off x="4038480" y="182880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es form when atoms gain, share, or lose electrons from their valence shell (ring farthest away from nucleus) so their structure resembles a Noble Gas which is very s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tet Rule- all atoms want to have 8 valence elec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with 1-3 valence electrons will lose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with 4 valence electrons will share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with 5-7 valence electrons will gain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toms lose or gain electrons, they form ions, or charged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ions- positive ions formed from 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more protons than 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ons- negative ions formed fro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me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more electrons than pr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toms rearrange their electrons, they can form forces of attraction with other atoms.  These forces of attraction are called chemical bon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mical Bond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c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ed from positive and negative ions joining toge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olves a metal with a nonme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00009140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8:42:22Z</dcterms:created>
  <dc:creator>End User</dc:creator>
  <dc:description/>
  <dc:language>en-US</dc:language>
  <cp:lastModifiedBy>PA Department of Education</cp:lastModifiedBy>
  <dcterms:modified xsi:type="dcterms:W3CDTF">2009-12-16T15:49:35Z</dcterms:modified>
  <cp:revision>38</cp:revision>
  <dc:subject/>
  <dc:title>Chemical Bonding</dc:title>
</cp:coreProperties>
</file>